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3CD7-F779-41E1-8A8E-4F0BB3009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94DA-819B-4364-AF0B-F52FA8025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5D1D-7BE6-43C2-B3F5-61FB1DC51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05EA-F1D8-4584-AD59-FF135B3B8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8D12-4C21-4738-9B43-9F6654CC3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5A25-0AE7-4425-BF42-99455429D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18E3-D511-476D-98CE-0AE74EF77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10C4-13BB-48E1-9BDC-E899ADD58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5CE6-48BD-4759-9254-0635099B7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DE2A-56BE-436A-B739-751394E7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78FF-77DB-4FAE-8DB3-F81386A8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BD69-53E3-48E3-B3B8-18B1B4EB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15319-D6EF-4F1A-9848-6ABB37243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62120" y="838080"/>
            <a:ext cx="45720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Thesis Statemen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1523880" y="3429000"/>
            <a:ext cx="55627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Poetry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 G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 and Defend a 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ary G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 and Defend Thesis in an Engaging Mann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0"/>
            <a:ext cx="320040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B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develop, evaluate, and edit a strong thesis stat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B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submit above thesis statement in wri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B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create and plan an individual project (only those who have not met with me ye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8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762120" y="838080"/>
            <a:ext cx="45720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Thesis Statemen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45" name=""/>
          <p:cNvSpPr/>
          <p:nvPr/>
        </p:nvSpPr>
        <p:spPr>
          <a:xfrm>
            <a:off x="1523880" y="3429000"/>
            <a:ext cx="601992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interpretation of po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etry deconstruction (nouns, verbs, literary devices, context, etc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is formation (deduction). Complete thesis dependent on all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943600" y="0"/>
            <a:ext cx="320040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B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develop, evaluate, and edit a strong thesis stat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B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submit above thesis statement in wri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B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create and plan an individual project (only those who have not met with me ye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762120" y="838080"/>
            <a:ext cx="45720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Thesis Statemen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1240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 thesis is and what a thesis is 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3657600"/>
            <a:ext cx="365760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hesis Is No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vague st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d Thesis Word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ys, talks about, seems, discus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ngs, someth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3657600"/>
            <a:ext cx="403848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hesis I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q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end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interpretation, not a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Thesis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s, explores, defines, shows, demonstrates, proves, argues, means, instr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943600" y="0"/>
            <a:ext cx="320040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B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develop, evaluate, and edit a strong thesis stat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B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submit above thesis statement in wri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B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create and plan an individual project (only those who have not met with me ye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0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7:49:56Z</dcterms:created>
  <dc:creator>Administrator</dc:creator>
  <dc:description/>
  <dc:language>en-US</dc:language>
  <cp:lastModifiedBy>Administrator</cp:lastModifiedBy>
  <dcterms:modified xsi:type="dcterms:W3CDTF">2010-09-16T12:15:01Z</dcterms:modified>
  <cp:revision>5</cp:revision>
  <dc:subject/>
  <dc:title>Slide 1</dc:title>
</cp:coreProperties>
</file>